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D546-D8C4-4188-9DB4-F9C2CB29D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1353-CB64-43D8-A600-6987E4D2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A028-63EC-4DC6-A9E9-EAE77ACA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AB73-5695-46ED-8211-8F24413FA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0E5B-3CD1-4DDD-9441-A42207515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7CDD-442B-4B61-8531-3C5AA1BA5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ADF8-86E2-4AAB-99E1-C1767CC0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806B-9563-4C8E-93C5-DBF72A88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DF2F-857B-40CD-B6F3-18C4BF94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99B0-398A-4B66-9681-56C0F990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9D6E-7D48-4EFE-A939-CD2C88B4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0C70-AE39-451D-8C51-9A4619C1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0A59-537E-4645-BA9F-71CD246A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F0B7-9151-4930-BC62-8C2FF40E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72F3-DBDB-4F81-A281-B3EC1C73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6E8B-2DD4-44B7-8DFC-4F194F13D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F62C-6095-4FD0-AB91-04C41601F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F874-F822-4204-8D2F-BDDF2169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64DD-3805-4E1A-AD30-3D930549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4120-3834-4AC9-B047-87334F7B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EBFD-0B50-449B-9F41-08EE6D5A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C57F-0FB7-4D1D-A087-A0CDD875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3A2F-1F14-477D-8D40-B0A3FFB9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8E7D-0316-47C2-A1C9-DF352A2D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AF72-67FE-4F0D-BC8B-A4A96CD141C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AB25-3EAC-4D77-9D01-85D7D1BFEA30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ubtitle 2"/>
          <p:cNvSpPr/>
          <p:nvPr/>
        </p:nvSpPr>
        <p:spPr>
          <a:xfrm>
            <a:off x="1447920" y="2895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chhs%20banner1"/>
          <p:cNvPicPr/>
          <p:nvPr/>
        </p:nvPicPr>
        <p:blipFill>
          <a:blip r:embed="rId1"/>
          <a:stretch/>
        </p:blipFill>
        <p:spPr>
          <a:xfrm>
            <a:off x="304920" y="990720"/>
            <a:ext cx="8610480" cy="1093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" descr=""/>
          <p:cNvPicPr/>
          <p:nvPr/>
        </p:nvPicPr>
        <p:blipFill>
          <a:blip r:embed="rId2"/>
          <a:stretch/>
        </p:blipFill>
        <p:spPr>
          <a:xfrm>
            <a:off x="0" y="5029200"/>
            <a:ext cx="914400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Object 2"/>
          <p:cNvGraphicFramePr/>
          <p:nvPr/>
        </p:nvGraphicFramePr>
        <p:xfrm>
          <a:off x="685800" y="304920"/>
          <a:ext cx="784872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920"/>
                    <a:ext cx="784872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2"/>
          <p:cNvGraphicFramePr/>
          <p:nvPr/>
        </p:nvGraphicFramePr>
        <p:xfrm>
          <a:off x="685800" y="304920"/>
          <a:ext cx="784872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920"/>
                    <a:ext cx="784872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450720" y="237960"/>
            <a:ext cx="8242560" cy="987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143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vide interventions  through new Math and Reading coach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construct and incorporate National Standards into curriculum maps and pacing guid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velop weekly advisor block for 2011-2012 school yea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4" name="Picture 1" descr=""/>
          <p:cNvPicPr/>
          <p:nvPr/>
        </p:nvPicPr>
        <p:blipFill>
          <a:blip r:embed="rId2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Ranked in to </a:t>
            </a:r>
            <a:r>
              <a:rPr b="1" lang="en-US" sz="2600" spc="-1" strike="noStrike">
                <a:solidFill>
                  <a:srgbClr val="c00000"/>
                </a:solidFill>
                <a:latin typeface="Book Antiqua"/>
              </a:rPr>
              <a:t>15%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in state in both ACT and KCCT score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Book Antiqua"/>
              </a:rPr>
              <a:t>Only school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in the area (28 schools) to improve in </a:t>
            </a:r>
            <a:r>
              <a:rPr b="1" lang="en-US" sz="2600" spc="-1" strike="noStrike">
                <a:solidFill>
                  <a:srgbClr val="c00000"/>
                </a:solidFill>
                <a:latin typeface="Book Antiqua"/>
              </a:rPr>
              <a:t>every area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on the KCCT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Book Antiqua"/>
              </a:rPr>
              <a:t>933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college credit hours earned through dual credit offerings by our students in 2009-2010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Book Antiqua"/>
              </a:rPr>
              <a:t>Final Four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in boy’s soccer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Book Antiqua"/>
              </a:rPr>
              <a:t>Final 8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in girl’s soccer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chool record for wins in football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Region championships in girl’s golf and volleyball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le 1" descr=""/>
          <p:cNvPicPr/>
          <p:nvPr/>
        </p:nvPicPr>
        <p:blipFill>
          <a:blip r:embed="rId1"/>
          <a:stretch/>
        </p:blipFill>
        <p:spPr>
          <a:xfrm>
            <a:off x="450720" y="1127160"/>
            <a:ext cx="8242560" cy="969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22860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 have good teachers, and students that are engaged in the classroo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ile we are teaching it isn’t always what we need to be teaching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 must focus on the 4 ques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at do students need to know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ow do we know we they have learned it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at do we do when they haven’t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hat do we do when they have?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7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3" descr=""/>
          <p:cNvPicPr/>
          <p:nvPr/>
        </p:nvPicPr>
        <p:blipFill>
          <a:blip r:embed="rId1"/>
          <a:stretch/>
        </p:blipFill>
        <p:spPr>
          <a:xfrm>
            <a:off x="414360" y="1438200"/>
            <a:ext cx="8242200" cy="10558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80520" y="25909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uilding a Culture of Learning for All through PLC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assrooms with rigorous instruction where students understand expectations through posted learning objectives tied to standards with real-world connec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evelop a balanced assessment system that drives instructio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mpower those who have mastered the content  to make decisions that best benefit students and learning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very content area divided into P.L.C.s (I.E. Algebra 1, Political Science, Chemistry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ekly P.L.C.’s plan, look at data, develop learning targets and common assessments. (common plan in 2010-2011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argeted interventions in Reading and Math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E:\documentation\MVC-010S.JPG"/>
          <p:cNvPicPr/>
          <p:nvPr/>
        </p:nvPicPr>
        <p:blipFill>
          <a:blip r:embed="rId2"/>
          <a:stretch/>
        </p:blipFill>
        <p:spPr>
          <a:xfrm>
            <a:off x="1554120" y="1600200"/>
            <a:ext cx="2637000" cy="2133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E:\documentation\MVC-014S.JPG"/>
          <p:cNvPicPr/>
          <p:nvPr/>
        </p:nvPicPr>
        <p:blipFill>
          <a:blip r:embed="rId3"/>
          <a:stretch/>
        </p:blipFill>
        <p:spPr>
          <a:xfrm>
            <a:off x="4952880" y="1600200"/>
            <a:ext cx="2819520" cy="2133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MVC-006S.JPG"/>
          <p:cNvPicPr/>
          <p:nvPr/>
        </p:nvPicPr>
        <p:blipFill>
          <a:blip r:embed="rId4"/>
          <a:srcRect l="0" t="28205" r="0" b="0"/>
          <a:stretch/>
        </p:blipFill>
        <p:spPr>
          <a:xfrm>
            <a:off x="1523880" y="41148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E:\Learning targets and a team meetings\photos for documentation and other stuff\DSC01385.JPG"/>
          <p:cNvPicPr/>
          <p:nvPr/>
        </p:nvPicPr>
        <p:blipFill>
          <a:blip r:embed="rId5"/>
          <a:stretch/>
        </p:blipFill>
        <p:spPr>
          <a:xfrm>
            <a:off x="5029200" y="41148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Content Placeholder 4" descr=""/>
          <p:cNvPicPr/>
          <p:nvPr/>
        </p:nvPicPr>
        <p:blipFill>
          <a:blip r:embed="rId1"/>
          <a:stretch/>
        </p:blipFill>
        <p:spPr>
          <a:xfrm>
            <a:off x="231840" y="1000080"/>
            <a:ext cx="8759880" cy="565632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762120" y="380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Long Range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242560" cy="968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Object 2"/>
          <p:cNvGraphicFramePr/>
          <p:nvPr/>
        </p:nvGraphicFramePr>
        <p:xfrm>
          <a:off x="609480" y="1295280"/>
          <a:ext cx="8001000" cy="52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295280"/>
                    <a:ext cx="8001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4" name="Content Placeholder 3" descr="Picture1.png"/>
          <p:cNvPicPr/>
          <p:nvPr/>
        </p:nvPicPr>
        <p:blipFill>
          <a:blip r:embed="rId2"/>
          <a:stretch/>
        </p:blipFill>
        <p:spPr>
          <a:xfrm>
            <a:off x="990720" y="1523880"/>
            <a:ext cx="739116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8242560" cy="1371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Unpacking  Standards = writing SMART student friendly learning targets based on the Program of Studies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2"/>
          <a:stretch/>
        </p:blipFill>
        <p:spPr>
          <a:xfrm>
            <a:off x="0" y="5029200"/>
            <a:ext cx="9144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3:41:51Z</dcterms:created>
  <dc:creator>tisaacs</dc:creator>
  <dc:description/>
  <dc:language>en-US</dc:language>
  <cp:lastModifiedBy>tisaacs</cp:lastModifiedBy>
  <dcterms:modified xsi:type="dcterms:W3CDTF">2011-02-16T12:50:43Z</dcterms:modified>
  <cp:revision>17</cp:revision>
  <dc:subject/>
  <dc:title>Slide 1</dc:title>
</cp:coreProperties>
</file>